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80B-2DFA-433A-B948-59B64573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8D0-C688-4EAE-B705-74B3A20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EF0-722D-4AC5-A4E5-C583162E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AF4-9B57-4824-A3D8-94AFFF76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BF5-13E7-4B99-9BA2-968EE85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D2C-FF2E-43EA-BB9B-7E18C6DF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0FD-E405-4C85-9CCB-960ABBD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687-928E-4016-8CA3-E700B70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541-4B59-4253-9E32-8087504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9F9-1A0E-4390-8C14-FE5A66A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65C-91D1-4151-9AC0-4EEF1B9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8A5-2FCD-4AAD-9DBE-A613AA2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220-4F83-4CB5-A2B7-F883FCF99D4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8 Pane, tvoje dielo chc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avia udeľ, popraj sí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om na česť tvoj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vet pozná, že ty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si môjho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ma Slovo tvoje c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ľa jeho rád aj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z tvojej múdr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a spela k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 tvoj nech mi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mätku cies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i myseľ, srdce vi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tvoje diel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semä pravdy s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j mu nerušený vzra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ho zalej, dozrieť d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 žatvu zachovaj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om nemusel sa ch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raz prídeš súdiť sv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6:03:26Z</dcterms:modified>
  <cp:revision>44</cp:revision>
  <dc:subject/>
  <dc:title>Je veľký náš Pán, on slávy je Kráľ Nech do všetkých strán  spev vrúcnych znie chvál.</dc:title>
</cp:coreProperties>
</file>